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89B-461F-422E-9758-37215BCB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38E-4CC3-4DC0-BF8C-EDE861B7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818-4FF1-436E-AF73-CB348641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892-BD5F-4C19-B273-3C94BF90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915-C886-4E62-B1ED-A6778191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54C-1E94-4008-9152-637D3EFE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D75-33A5-48AF-937F-B16435DA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91D-977E-4571-80D4-9CE1DCB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1C9-5BDC-4F5A-8DD6-50449F9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9D5-C6E1-4CE5-805A-D88E57A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BC3-152C-4E67-83E4-27486D9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F62-8B7D-4CEA-B4F3-BF5A5A9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9C5-42BC-49F0-AE23-652869C4E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atrick@cypress.co.nz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zffa.org.nz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zif.org.n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9999"/>
                </a:solidFill>
                <a:latin typeface="Arial"/>
              </a:rPr>
              <a:t>The ETS – how have farm-forestry &amp; forestry cop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Patrick Mi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12520" y="623736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Ph 0800 297737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N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rick@cypress.co.nz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33336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The Farm Forest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77336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rstly, its nothing new – it’s what farm foresters and many farmers have been doing for 50 years or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922920" cy="2606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905280" cy="259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3573360"/>
            <a:ext cx="47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Farm Forestry model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 trees wisely integrated into the New Zealand landscape for profit, amenity, conservation and sustainabilit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Now have another income option from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hn Cyp logo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33336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The Farm Forest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5984" t="5214" r="27205" b="22817"/>
          <a:stretch/>
        </p:blipFill>
        <p:spPr>
          <a:xfrm>
            <a:off x="4356000" y="1484280"/>
            <a:ext cx="4316400" cy="3719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03120" y="1576440"/>
            <a:ext cx="38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276640"/>
            <a:ext cx="390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umerous examples (case studies) of the FFM on the FFA web site. </a:t>
            </a: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zffa.org.nz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ny links to other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thn Cyp logo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7280" y="476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The ET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in financial benefit of trading carbon credits comes from the ‘time value of money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come from the sale of carbon credits  earned as the forest grows can be invested in more trees, something else, or used to pay off debt.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7600" y="54936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The ET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9999"/>
                </a:solidFill>
                <a:latin typeface="Arial"/>
              </a:rPr>
              <a:t>Th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hen your forest is harvested or the carbon is lost (wind, fire, pest or disease) the carbon credits claimed from it have to be rep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Often referred to as the ETS liability - needs to be accepted, understood &amp; man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ny strategies available to mitigate liabilities including: </a:t>
            </a: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good forest practices, insurance, silviculture, spreading planting and deferring harvest dates, mix of species and carbon hed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83920"/>
            <a:ext cx="871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ll tree species are eligible providing the planting of them meets the definition of a fo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Main species are: Radiata pine, Douglas-fir, Eucalypts, Cypresses, Redwoods, Poplars &amp; indigen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lant &amp; leave forest possibly more profitable - consensus amongst foresters to have a dollar each way and also manage the forest to produce a high value timber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Every farm is different – the importance of good advice can’t be over emphas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3336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Forests for wood &amp;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9999"/>
                </a:solidFill>
                <a:latin typeface="Arial"/>
              </a:rPr>
              <a:t>Regimes &amp;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Carbon credits</a:t>
            </a:r>
            <a:br>
              <a:rPr sz="4000"/>
            </a:br>
            <a:r>
              <a:rPr b="1" lang="en-NZ" sz="2000" spc="-1" strike="noStrike">
                <a:solidFill>
                  <a:srgbClr val="009999"/>
                </a:solidFill>
                <a:latin typeface="Arial"/>
              </a:rPr>
              <a:t>Should you participate?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 most cases, definitely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Potential for income from sale of carbon cr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arm forestry definitely compliments other land uses eg. sheep &amp; beef fa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The FFM is a well proven, practical approach to integrate trees into the land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Get good advice – recommend only Registered Forest Consultants – </a:t>
            </a: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if.org.nz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thn Cyp logo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8836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Snapshot of ETS: 30-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50ha exemption – 2,500ha exempt of estimated 17,000 ha elig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Pre1990:  1100 participants, 0.6m ha of eligible 1.4m 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ost 1989:  1200 participants.  A handful of corporates, but mostly farmers and small forest grow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200,000ha approved – 32% eligibl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4.4m credits clai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AF very actively promoting the ETS.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1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A significant opportunity for farming &amp; fores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al opportunity to introduce / increase liquidity into both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Stress the importance of getting good advice – remember that it is complicated.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th Farm Forestry &amp; Forestry have accepted the challenge of the 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2060640"/>
            <a:ext cx="8424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Farm forest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– farmers using forestry to  compliment their farming business: -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ostly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arm-foresters or members of NZF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Forestry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– traditional forestry business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1240" y="738360"/>
            <a:ext cx="28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Forestry has been a participant of the ETS since day one – 1st Jan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Both industries are coping very well with the ETS as defined in the Climate Change Response Act.  It’s very complex and far from straight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e 2008, forestry lobbied hard to be excluded from the NZ 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Forestry has put a huge effort into both understanding the legislation and participating in the ETS –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edicated staff time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The NZFFA has also put in a similar effort to helping its members understand the ETS: </a:t>
            </a: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Branch meetings, workshops, field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- newsletters, Email updat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9999"/>
                </a:solidFill>
                <a:latin typeface="Arial"/>
              </a:rPr>
              <a:t>How has forestry coped with the 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240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NZFFA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ess than 50ha exe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Weeds exe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egistering pre1990 forests for partial compen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Registering post 1989 forests for participation in the 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isk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e-1990 forest owners – the ETS is a 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and use options are restri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overnment planning to introduce offsetting – but still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8680" y="476280"/>
            <a:ext cx="64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The ETS – what’s in it for land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o benefit, landowners need to participate in the ETS – by growing trees (practice forestry) and then accumulating and trading 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Numerous farming and forestry studies evaluating participation in the 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ost show a positive benefit of participating in the 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7400" y="9079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The ETS today – what’s in it for land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NZ farm &amp; forest land has potential to produce 15-40+ tonnes carbon (NZU’s) per ha/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epending on location, species &amp; carbon$ – cashflow can be positive from 3 years onw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8000"/>
                </a:solidFill>
                <a:latin typeface="Arial"/>
              </a:rPr>
              <a:t>For foresters &amp; farm foresters, the ETS offers another income stream to their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thn Cyp log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150920" cy="752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04680" y="47628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9999"/>
                </a:solidFill>
                <a:latin typeface="Arial"/>
              </a:rPr>
              <a:t>The ET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9999"/>
                </a:solidFill>
                <a:latin typeface="Arial"/>
              </a:rPr>
              <a:t>The ET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any farmers already practising forestry on their farms – so they’re not re-inventing the wh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1:29:55Z</dcterms:created>
  <dc:creator>Patrick</dc:creator>
  <dc:description/>
  <dc:language>en-US</dc:language>
  <cp:lastModifiedBy>Patrick</cp:lastModifiedBy>
  <dcterms:modified xsi:type="dcterms:W3CDTF">2012-08-21T22:36:06Z</dcterms:modified>
  <cp:revision>63</cp:revision>
  <dc:subject/>
  <dc:title>The ETS – what’s in it for farmers</dc:title>
</cp:coreProperties>
</file>